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Rockwel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EF4F-2955-4068-969E-A5815DD0BA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6600-4BD3-498D-B066-9DD5EC4B2D32}"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6EB2-D30D-4658-86F8-12F04C5DEF0E}"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F599-A294-4EF1-9772-43A559E1A049}"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C965-B5BA-461A-906C-2D80C6EE77D2}"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E318-E8C6-4A21-A75F-8CE9BE671408}"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F3A2-5149-4394-A36E-53C660A515F7}"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3432-D3A1-4C46-ACC6-2D9A779DE6ED}"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0AD0-75B6-44A5-9176-07CDAAE40510}"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D4FF-ED1F-439C-B90E-C88B1A6F8DA7}"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2A31-4901-4932-BCB8-D78602E201A7}"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7CB0-3366-4566-A4B8-9B9C51A5D1BC}"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2171-1B23-4170-92F8-CB650AE14282}"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4A4A-C72D-4F78-9A75-B0033F5B73D8}"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FD9C-2779-4BF6-8948-F7988068AA6B}"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A725-35C1-4AF0-9084-D7F76F445F1C}"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5161-F893-46EC-8750-743192A6B69A}"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4767-FE2A-4E35-B7C4-E6AB5244480F}"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86C5-7EB8-4D4F-BAB4-BC8257957E5B}"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887E-47F4-4D8E-AB63-EF65FA297C05}"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695A-3F90-448A-85B0-BDFC7894092A}"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BE68-9B49-43AB-9E3D-37C5EE436DC6}"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8AF0-69E9-423D-AD03-A9E66DAF73C0}"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DDD8-D022-4C04-BF6C-7FA7C5FADC05}"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A18A-7F29-42FD-8377-D4154D5E01A8}"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32D3-55FD-416A-B07F-3F360448D091}" type="slidenum">
              <a:rPr b="0" lang="en-US" sz="1200" spc="-1" strike="noStrike">
                <a:solidFill>
                  <a:srgbClr val="ffffff"/>
                </a:solidFill>
                <a:latin typeface="Calibri"/>
              </a:rPr>
              <a:t>&lt;number&gt;</a:t>
            </a:fld>
            <a:endParaRPr b="0" lang="en-US" sz="1200" spc="-1" strike="noStrike">
              <a:solidFill>
                <a:srgbClr val="ffffff"/>
              </a:solidFill>
              <a:latin typeface="Rockwel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FDA596D-95BA-4BFD-96B5-E65658831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1E994CB-FB6B-45CA-89D9-76D688489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FAFD91F-98D3-4F42-B9C8-0A29F943A7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8748E9A-BC7C-4D34-861B-03E39AAA5A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42466CF-B412-4C9D-8DB2-53EF5C7AE9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D7426BA-FAF4-4DA4-925C-556854A58F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317C544-81B2-44C5-AE0C-444AE929CB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564C33C-41DA-4672-9029-F8B7C60D7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2C9C4F9-3497-4C33-B888-4F82086B5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7D55D72-4788-43EF-8CBF-DB685158E5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77AD4E3-83E6-4E7F-A671-ECF3690343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1C4FE756-1CA8-481D-BECB-3687435DE41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301E75F-0604-461A-BF57-2718717F704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A11635D-414A-4901-9042-980F881B8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28F7E1-2DF5-437A-BD31-F663B4444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52B536-A1B3-4AC6-B8AC-5EC6B966D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C2C462-023D-456E-9279-925F177A7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61DFCBE-BD71-4FA9-91E0-33D09DC4C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D78961-7E61-45D0-A839-16F957CB2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AD290D-CB0F-490B-9AF8-C700C66D0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B8D2561-32F5-4BFC-96F8-2585A5E90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9F16E5-9E6C-488E-B1CD-24644EFEA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A17C6B-308D-4D80-8D00-985FFBBA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75681A-FFC5-41F5-A501-152B4FC4E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7C1CB9F-9E53-4E6A-B052-C01BA0B95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A253ED6-017F-4E1D-AF26-467AC1784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E685B6-2995-4334-86C8-9965C4F466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0B8CE-959D-4BBD-933D-FBAB06FFA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3C2C5-53BB-4832-98D2-C66D19E1B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EDEE1-15F2-45F2-8C7D-D136158056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8C438-C2C9-46FB-A7A1-EDD428F3C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5ECAD61-4475-41E1-BC61-32DFE2E45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4F6B2C-9432-4A24-BFD2-8E46538989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9853D-4C57-48DE-B795-092C22593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4A3CE-0F5C-488F-A111-9661E4BFD6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44833-6C27-41FA-9718-EB49E6D73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4F2D3C-6283-47D6-B686-1C41FB206D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60AD2-370D-4AD2-9CED-B57FA106CF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96FB94-8F94-4528-9516-097B8559E3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7CE27EA-581D-459B-8785-651979DCE7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3D9C4C-5D69-4B3A-8C3C-DB9EABA24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308F5EC-31E8-4A42-A1D8-5AF09B07A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33E1647-9EB3-4625-BDEE-B159EF05D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C705F8-89BC-4CE0-AEDB-45F84B6F4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505F21-DA15-4DBA-9EFC-E946D2C03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7BB786-12BE-477C-AD37-07D5F5F46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7B44D2-EA84-44F1-978B-670FBE9B1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FE3F86-72ED-47E2-B00C-08DEF2957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A77C23-01B7-4BC6-A8E7-26A77207F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FADF64-90EC-4C7C-AB1B-99833EE36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78E5B2-555A-4B2C-B1CB-60B1DB37DF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EAA381D-00D5-4633-A030-22E8D6606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0D58A3-28AD-4547-8CF5-8FE3CCB1B0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9B2D667-E4CF-4FD4-A358-30A4D52F9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082FB-A4CE-4D72-A731-0D4B702DA1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1832E5-9DEB-4570-A715-3B3803E6D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67FCDC-E3A6-43E0-A739-F5B1EDB1A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57CB8F-0363-42F9-AF8E-FC1634A461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CD0A8-8578-4A11-A788-4E690CF1E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30649D-29D9-4940-8512-13EBD1F9B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0B8C2-114B-4098-95C1-CA36A2084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5AE39-1E43-4142-8223-945ECABCA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23C0C-1E62-44E8-A0D3-672E6A094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7F2418-A725-41D3-A644-AAB631A31D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03C5A06-0E38-4AD2-A096-6444D2895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83FF11-DF04-4D65-8203-E92F4BE00A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F0672-05A4-4AF0-9C91-44E56D420B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D4092E-9810-4387-9719-2818F47D0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13C83D-E089-451C-BBF1-DF86DF90F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4F8623-B164-40B5-BC34-0B3C2F046C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B72D90-CFAE-4452-B7E1-F85D7D3E1D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C9766-A7F7-4A80-8EE8-4F35D5443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940B35-037C-4320-8DCE-E8CFC840E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2814E-DD8D-424A-8DB1-C1DAA187B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78847D-C20E-4114-B376-1B7DF6326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399F183-BA3E-4FE0-AF87-E58BE03D0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B20D6-1B85-4B1D-B3ED-085B0E5BF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1336AB-42F1-4634-A513-D134DAFE8E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E78F42-3F41-442D-AE6C-F69CCDDB39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222967-E8C2-45E9-959F-D96FE04BDE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1E880D-CB4A-41A2-8562-DAB5CF9928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566A95-98A4-421B-B723-A204C8E760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50D93B-87CF-4564-81BB-0F7C1D016D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0785D-D52B-41FD-BB51-CE377B9C7A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F8AA28-BC6F-4389-A220-764AF6B4B4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D1650-4DC8-470B-BFC4-DB2CA90BE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112A693-030A-4A39-B7FE-DEBDF70387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AA602-6981-4627-AA7A-70D82B10B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67CBF1-D95F-448C-895A-64EBDFB9E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1072E3-55F8-41AA-80F6-8B8ECEFB3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872BE4-EB33-44D3-8EA3-26A5738584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3AF6B0-655D-4798-809D-BA53154D55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F907038-377D-4895-9C14-C63E210B48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DA1F275-FC1B-4412-BA67-B74C6F47C4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4CA80DB-C6DC-4FBD-9F63-AD32ED4F67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C47002B-834E-4007-B03F-C9B4EEEC8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0BA44F9-8CF2-4E60-8F8D-6ACFCD6B3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350A49C-6457-46B4-8619-87617B3CA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3BB0C18-832F-47A9-BB22-2E931879B1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78DC9E6-9111-4D33-A4DC-CEF96D6B5B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251A460-E8A8-402D-B28C-5946B8700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2A504A5-5897-46FF-8382-1D77CDE5CE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5C2AA23-4FF8-42F6-B1EF-52FC064B8A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DA4C585-57C1-41CE-8D73-F56E62C87F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AA020AD-11BC-4B64-B674-982C5FBEB4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037467E-4CC9-4942-9E7F-9553440FFF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60A59B8-E495-43CE-A397-DB4593A7CC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CFAD80B-9D72-44FB-AFC5-FA4D5E625E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F3A8-950C-42D5-97DA-150C36B066D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4C7D-6140-4833-B8B8-B492C3B7B7B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56D9-72EB-408B-9FEB-AF9B803B6D9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8F65-8C4D-4294-A099-223E737EE06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A616-AB8A-45FA-80BA-E5C65E3BE34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DAA2-A754-442D-A583-68405DFC0B3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CE1A-0008-407F-BBEE-4E251867586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4A37-D1E0-44C9-8A16-7B190583418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B110-EF65-4B6B-B258-9171AEF82E2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7200" y="378000"/>
            <a:ext cx="8418600" cy="2232000"/>
          </a:xfrm>
          <a:prstGeom prst="rect">
            <a:avLst/>
          </a:prstGeom>
          <a:ln w="0">
            <a:noFill/>
          </a:ln>
        </p:spPr>
      </p:pic>
      <p:sp>
        <p:nvSpPr>
          <p:cNvPr id="402" name="PlaceHolder 1"/>
          <p:cNvSpPr>
            <a:spLocks noGrp="1"/>
          </p:cNvSpPr>
          <p:nvPr>
            <p:ph type="subTitle"/>
          </p:nvPr>
        </p:nvSpPr>
        <p:spPr>
          <a:xfrm>
            <a:off x="2133360" y="2819520"/>
            <a:ext cx="6559560" cy="1752480"/>
          </a:xfrm>
          <a:prstGeom prst="rect">
            <a:avLst/>
          </a:prstGeom>
          <a:noFill/>
          <a:ln w="0">
            <a:noFill/>
          </a:ln>
        </p:spPr>
        <p:txBody>
          <a:bodyPr lIns="45720" rIns="24696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e History of Federal Regulation</a:t>
            </a:r>
            <a:endParaRPr b="0" lang="en-US" sz="3200" spc="-1" strike="noStrike">
              <a:solidFill>
                <a:srgbClr val="ffffff"/>
              </a:solidFill>
              <a:latin typeface="Rockwel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ax Gardner’s SOS Seminar</a:t>
            </a:r>
            <a:endParaRPr b="0" lang="en-US" sz="3200" spc="-1" strike="noStrike">
              <a:solidFill>
                <a:srgbClr val="ffffff"/>
              </a:solidFill>
              <a:latin typeface="Rockwel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ptember 17 to 19, 2010</a:t>
            </a:r>
            <a:endParaRPr b="0" lang="en-US" sz="3200" spc="-1" strike="noStrike">
              <a:solidFill>
                <a:srgbClr val="ffffff"/>
              </a:solidFill>
              <a:latin typeface="Rockwel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0720" y="249120"/>
            <a:ext cx="8541000" cy="1165320"/>
          </a:xfrm>
          <a:prstGeom prst="rect">
            <a:avLst/>
          </a:prstGeom>
          <a:ln w="0">
            <a:noFill/>
          </a:ln>
        </p:spPr>
      </p:pic>
      <p:sp>
        <p:nvSpPr>
          <p:cNvPr id="420"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xed Commission for Stock Trading</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 Ordered Elimination of Fixed Commission in NYSE on May 1, 1975</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llowed Competition for Business and Allowed Institutional Investors to Make Large Trades More Cheapl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Greatly Increased Trading Volume</a:t>
            </a:r>
            <a:endParaRPr b="0" lang="en-US" sz="3200" spc="-1" strike="noStrike">
              <a:solidFill>
                <a:srgbClr val="ffffff"/>
              </a:solidFill>
              <a:latin typeface="Rockwell"/>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450720" y="-695160"/>
            <a:ext cx="8632800" cy="2103120"/>
          </a:xfrm>
          <a:prstGeom prst="rect">
            <a:avLst/>
          </a:prstGeom>
          <a:ln w="0">
            <a:noFill/>
          </a:ln>
        </p:spPr>
      </p:pic>
      <p:sp>
        <p:nvSpPr>
          <p:cNvPr id="422"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nabled Banks to Compete for Deposits by Paying Higher Rat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llowed S&amp;L’s to Expand into Commercial and other Mortgages (not just hom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e-empted State Laws on Interest Rates on First Mortgag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anks Could Charge Any Interest Rate Market Would Support</a:t>
            </a:r>
            <a:endParaRPr b="0" lang="en-US" sz="3200" spc="-1" strike="noStrike">
              <a:solidFill>
                <a:srgbClr val="ffffff"/>
              </a:solidFill>
              <a:latin typeface="Rockwel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450720" y="-66600"/>
            <a:ext cx="8491680" cy="1474560"/>
          </a:xfrm>
          <a:prstGeom prst="rect">
            <a:avLst/>
          </a:prstGeom>
          <a:ln w="0">
            <a:noFill/>
          </a:ln>
        </p:spPr>
      </p:pic>
      <p:sp>
        <p:nvSpPr>
          <p:cNvPr id="42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rgued for Decreased Regulati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rgued for Increased Liberalization of the Market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ree Capital Movements Facilitate a More Efficient Global Market</a:t>
            </a:r>
            <a:endParaRPr b="0" lang="en-US" sz="3200" spc="-1" strike="noStrike">
              <a:solidFill>
                <a:srgbClr val="ffffff"/>
              </a:solidFill>
              <a:latin typeface="Rockwel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1" descr=""/>
          <p:cNvPicPr/>
          <p:nvPr/>
        </p:nvPicPr>
        <p:blipFill>
          <a:blip r:embed="rId1"/>
          <a:stretch/>
        </p:blipFill>
        <p:spPr>
          <a:xfrm>
            <a:off x="450720" y="249120"/>
            <a:ext cx="8541000" cy="1165320"/>
          </a:xfrm>
          <a:prstGeom prst="rect">
            <a:avLst/>
          </a:prstGeom>
          <a:ln w="0">
            <a:noFill/>
          </a:ln>
        </p:spPr>
      </p:pic>
      <p:sp>
        <p:nvSpPr>
          <p:cNvPr id="426" name=""/>
          <p:cNvSpPr txBox="1"/>
          <p:nvPr/>
        </p:nvSpPr>
        <p:spPr>
          <a:xfrm>
            <a:off x="457200" y="1646280"/>
            <a:ext cx="8229600" cy="4525920"/>
          </a:xfrm>
          <a:prstGeom prst="rect">
            <a:avLst/>
          </a:prstGeom>
          <a:noFill/>
          <a:ln w="0">
            <a:noFill/>
          </a:ln>
        </p:spPr>
        <p:txBody>
          <a:bodyPr lIns="90000" rIns="90000" tIns="46800" bIns="46800" anchor="t">
            <a:normAutofit fontScale="99000"/>
          </a:bodyPr>
          <a:p>
            <a:pPr marL="288720" indent="-28872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rst Treasury Secretary for President Reagan</a:t>
            </a:r>
            <a:endParaRPr b="0" lang="en-US" sz="3200" spc="-1" strike="noStrike">
              <a:solidFill>
                <a:srgbClr val="ffffff"/>
              </a:solidFill>
              <a:latin typeface="Rockwell"/>
            </a:endParaRPr>
          </a:p>
          <a:p>
            <a:pPr marL="288720" indent="-28872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rmer Merrill Lynch CEO</a:t>
            </a:r>
            <a:endParaRPr b="0" lang="en-US" sz="3200" spc="-1" strike="noStrike">
              <a:solidFill>
                <a:srgbClr val="ffffff"/>
              </a:solidFill>
              <a:latin typeface="Rockwell"/>
            </a:endParaRPr>
          </a:p>
          <a:p>
            <a:pPr marL="288720" indent="-28872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hampion of Deregulation</a:t>
            </a:r>
            <a:endParaRPr b="0" lang="en-US" sz="3200" spc="-1" strike="noStrike">
              <a:solidFill>
                <a:srgbClr val="ffffff"/>
              </a:solidFill>
              <a:latin typeface="Rockwell"/>
            </a:endParaRPr>
          </a:p>
          <a:p>
            <a:pPr marL="288720" indent="-28872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Donald Regan’s approach:</a:t>
            </a:r>
            <a:endParaRPr b="0" lang="en-US" sz="3200" spc="-1" strike="noStrike">
              <a:solidFill>
                <a:srgbClr val="ffffff"/>
              </a:solidFill>
              <a:latin typeface="Rockwell"/>
            </a:endParaRPr>
          </a:p>
          <a:p>
            <a:pPr lvl="1" marL="633240" indent="-226080">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t>
            </a:r>
            <a:r>
              <a:rPr b="0" lang="en-US" sz="2600" spc="-1" strike="noStrike">
                <a:solidFill>
                  <a:srgbClr val="ffffff"/>
                </a:solidFill>
                <a:latin typeface="Rockwell"/>
              </a:rPr>
              <a:t>The deregulation of financial institutions is my top priority.  I will be trying to deregulate them as quickly as possible in the field of interest rates, mandatory ceilings, things of that nature.”</a:t>
            </a:r>
            <a:endParaRPr b="0" lang="en-US" sz="2600" spc="-1" strike="noStrike">
              <a:solidFill>
                <a:srgbClr val="ffffff"/>
              </a:solidFill>
              <a:latin typeface="Rockwell"/>
            </a:endParaRPr>
          </a:p>
          <a:p>
            <a:pPr lvl="1" marL="633240" indent="-226080">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October, 1981</a:t>
            </a:r>
            <a:endParaRPr b="0" lang="en-US" sz="2600" spc="-1" strike="noStrike">
              <a:solidFill>
                <a:srgbClr val="ffffff"/>
              </a:solidFill>
              <a:latin typeface="Rockwel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420840" y="249120"/>
            <a:ext cx="8570880" cy="1165320"/>
          </a:xfrm>
          <a:prstGeom prst="rect">
            <a:avLst/>
          </a:prstGeom>
          <a:ln w="0">
            <a:noFill/>
          </a:ln>
        </p:spPr>
      </p:pic>
      <p:sp>
        <p:nvSpPr>
          <p:cNvPr id="428"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rst Securitization in 1968</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Ginnie buy loans lenders, combine in pools &amp; Issue Securities back to lenders who could then sell them to Investor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incipal on Mortgages (but not risk of prepayment) guaranteed by Ginni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Ginnie Part of US Government so Guarantee backed by US Treasury</a:t>
            </a:r>
            <a:endParaRPr b="0" lang="en-US" sz="3200" spc="-1" strike="noStrike">
              <a:solidFill>
                <a:srgbClr val="ffffff"/>
              </a:solidFill>
              <a:latin typeface="Rockwell"/>
            </a:endParaRP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450720" y="249120"/>
            <a:ext cx="8541000" cy="1165320"/>
          </a:xfrm>
          <a:prstGeom prst="rect">
            <a:avLst/>
          </a:prstGeom>
          <a:ln w="0">
            <a:noFill/>
          </a:ln>
        </p:spPr>
      </p:pic>
      <p:sp>
        <p:nvSpPr>
          <p:cNvPr id="430"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970’s by Salomon Brother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ttempted to Create Securities out of Bank of America Mortgag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ailed due to Tax Law Problems (double taxati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ailed due to State Regulation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nvented by Lewis Ranieri of Salomon</a:t>
            </a:r>
            <a:endParaRPr b="0" lang="en-US" sz="3200" spc="-1" strike="noStrike">
              <a:solidFill>
                <a:srgbClr val="ffffff"/>
              </a:solidFill>
              <a:latin typeface="Rockwel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450720" y="249120"/>
            <a:ext cx="8541000" cy="1165320"/>
          </a:xfrm>
          <a:prstGeom prst="rect">
            <a:avLst/>
          </a:prstGeom>
          <a:ln w="0">
            <a:noFill/>
          </a:ln>
        </p:spPr>
      </p:pic>
      <p:sp>
        <p:nvSpPr>
          <p:cNvPr id="432"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ary Mortgage Market Enhancement Act of 1984</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eared Away Most of the Tax Issu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e-Empted All State Regulation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llowed Investment Banks to Buy Virtually All Mortgages, Pool Together, and Re-sell Slices with Varying Levels of Risk</a:t>
            </a:r>
            <a:endParaRPr b="0" lang="en-US" sz="3200" spc="-1" strike="noStrike">
              <a:solidFill>
                <a:srgbClr val="ffffff"/>
              </a:solidFill>
              <a:latin typeface="Rockwell"/>
            </a:endParaRP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450720" y="-66600"/>
            <a:ext cx="8632800" cy="1474560"/>
          </a:xfrm>
          <a:prstGeom prst="rect">
            <a:avLst/>
          </a:prstGeom>
          <a:ln w="0">
            <a:noFill/>
          </a:ln>
        </p:spPr>
      </p:pic>
      <p:sp>
        <p:nvSpPr>
          <p:cNvPr id="43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art of the 1986 Tax Reform Act</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iminated Double Taxation for RMBS Trust and Bond Investor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ade Mortgage Securities More Attractiv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reated Strict Tax Rules re Formation and Control of Mortgages in Trust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reated New Markets for Private Mortgage Backed Securities</a:t>
            </a:r>
            <a:endParaRPr b="0" lang="en-US" sz="3200" spc="-1" strike="noStrike">
              <a:solidFill>
                <a:srgbClr val="ffffff"/>
              </a:solidFill>
              <a:latin typeface="Rockwell"/>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1" descr=""/>
          <p:cNvPicPr/>
          <p:nvPr/>
        </p:nvPicPr>
        <p:blipFill>
          <a:blip r:embed="rId1"/>
          <a:stretch/>
        </p:blipFill>
        <p:spPr>
          <a:xfrm>
            <a:off x="450720" y="249120"/>
            <a:ext cx="8541000" cy="1165320"/>
          </a:xfrm>
          <a:prstGeom prst="rect">
            <a:avLst/>
          </a:prstGeom>
          <a:ln w="0">
            <a:noFill/>
          </a:ln>
        </p:spPr>
      </p:pic>
      <p:sp>
        <p:nvSpPr>
          <p:cNvPr id="436"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nvention of the Interest Rate Swap by Salomon in 1981</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ompany A Pays Interest to B at Fixed Rat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ompany B Pays Interest to A at a Floating Rat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wap of Interest Rate Risk Between Company A &amp; B</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urrency Rate Swaps Operate Same Way</a:t>
            </a:r>
            <a:endParaRPr b="0" lang="en-US" sz="3200" spc="-1" strike="noStrike">
              <a:solidFill>
                <a:srgbClr val="ffffff"/>
              </a:solidFill>
              <a:latin typeface="Rockwel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450720" y="249120"/>
            <a:ext cx="8541000" cy="1165320"/>
          </a:xfrm>
          <a:prstGeom prst="rect">
            <a:avLst/>
          </a:prstGeom>
          <a:ln w="0">
            <a:noFill/>
          </a:ln>
        </p:spPr>
      </p:pic>
      <p:sp>
        <p:nvSpPr>
          <p:cNvPr id="438"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waps of Rates in Opposite Direction from Market Interest Rates</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ouped Up with Leverage Options</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ncluded Embedded Options</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ll Deals Being Hedged with Third Parties</a:t>
            </a:r>
            <a:endParaRPr b="0" lang="en-US" sz="3200" spc="-1" strike="noStrike">
              <a:solidFill>
                <a:srgbClr val="ffffff"/>
              </a:solidFill>
              <a:latin typeface="Rockwell"/>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66600"/>
            <a:ext cx="8656920" cy="147456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ey were careless people, Tom &amp; Daisy—they smashed up things and creatures and then retreated back into their money or their vast carelessness, or whatever it was that kept them together, and let other people clean up the mess they made.</a:t>
            </a:r>
            <a:endParaRPr b="0" lang="en-US" sz="3200" spc="-1" strike="noStrike">
              <a:solidFill>
                <a:srgbClr val="ffffff"/>
              </a:solidFill>
              <a:latin typeface="Rockwel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1" descr=""/>
          <p:cNvPicPr/>
          <p:nvPr/>
        </p:nvPicPr>
        <p:blipFill>
          <a:blip r:embed="rId1"/>
          <a:stretch/>
        </p:blipFill>
        <p:spPr>
          <a:xfrm>
            <a:off x="450720" y="249120"/>
            <a:ext cx="8541000" cy="1165320"/>
          </a:xfrm>
          <a:prstGeom prst="rect">
            <a:avLst/>
          </a:prstGeom>
          <a:ln w="0">
            <a:noFill/>
          </a:ln>
        </p:spPr>
      </p:pic>
      <p:sp>
        <p:nvSpPr>
          <p:cNvPr id="440"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 Form of Insurance on Debt</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uyer of Swap Pays a Fixed Premium to Seller</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ller Agrees to Payoff the Debt if Seller Fails to Do So</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ypical Debt is a Bond or Mortgage Backed Security</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llowed Anyone to Sell Insurance on Any Fixed Income Security (in lieu of Monoline Ins, Fannie &amp; Freddie)</a:t>
            </a:r>
            <a:endParaRPr b="0" lang="en-US" sz="3200" spc="-1" strike="noStrike">
              <a:solidFill>
                <a:srgbClr val="ffffff"/>
              </a:solidFill>
              <a:latin typeface="Rockwell"/>
            </a:endParaRPr>
          </a:p>
        </p:txBody>
      </p:sp>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450720" y="249120"/>
            <a:ext cx="8541000" cy="1165320"/>
          </a:xfrm>
          <a:prstGeom prst="rect">
            <a:avLst/>
          </a:prstGeom>
          <a:ln w="0">
            <a:noFill/>
          </a:ln>
        </p:spPr>
      </p:pic>
      <p:sp>
        <p:nvSpPr>
          <p:cNvPr id="442"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978, FRB held that Bankers Trust placement of short term commercial paper issued by corporations with investors did NOT violate Glass-Steagall</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RB Ruling Upheld by D.C. Court of Appeals in 1986</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n 1986, FRB allowed Commercial Banks to establish Affiliated Companies to deal with Securities that were “Off-Limits” to Banks</a:t>
            </a:r>
            <a:endParaRPr b="0" lang="en-US" sz="3200" spc="-1" strike="noStrike">
              <a:solidFill>
                <a:srgbClr val="ffffff"/>
              </a:solidFill>
              <a:latin typeface="Rockwel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Title 1" descr=""/>
          <p:cNvPicPr/>
          <p:nvPr/>
        </p:nvPicPr>
        <p:blipFill>
          <a:blip r:embed="rId1"/>
          <a:stretch/>
        </p:blipFill>
        <p:spPr>
          <a:xfrm>
            <a:off x="450720" y="-66600"/>
            <a:ext cx="8632800" cy="1474560"/>
          </a:xfrm>
          <a:prstGeom prst="rect">
            <a:avLst/>
          </a:prstGeom>
          <a:ln w="0">
            <a:noFill/>
          </a:ln>
        </p:spPr>
      </p:pic>
      <p:sp>
        <p:nvSpPr>
          <p:cNvPr id="44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Relaxed Constraints on Interstate Banking</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Allowed to Coast-to-Coast Banking</a:t>
            </a:r>
            <a:endParaRPr b="0" lang="en-US" sz="22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NationsBank Bought Boatmen’s Banc in 1986 &amp; Barnett Bank in 1997</a:t>
            </a:r>
            <a:endParaRPr b="0" lang="en-US" sz="18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ank of America Bought Security Pacific in 1992</a:t>
            </a:r>
            <a:endParaRPr b="0" lang="en-US" sz="18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NationsBank Bought BOA in 1998</a:t>
            </a:r>
            <a:endParaRPr b="0" lang="en-US" sz="18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New BOA Bought Fleet Boston in 2004</a:t>
            </a:r>
            <a:endParaRPr b="0" lang="en-US" sz="18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hemical Bank &amp; Manufactures Hanover Merged in 1991, Chemical &amp; Chase Merged in 1996, Bank One &amp; First Chicago in 1997, and J.P. Morgan &amp; Chase Manhattan in 2000 to Create JPMorgan Chase</a:t>
            </a:r>
            <a:endParaRPr b="0" lang="en-US" sz="18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Wells Fargo Bought First Interstate in 1996 &amp; Merged with Norwest in 1998</a:t>
            </a:r>
            <a:endParaRPr b="0" lang="en-US" sz="18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Wachovia Built out of Merges of First Union, CoreStates &amp; Wachovia Between 1998 and 2001</a:t>
            </a:r>
            <a:endParaRPr b="0" lang="en-US" sz="18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Commercial Credit Bought Primerica (Smith Barney) in 1988, added Travelers in 1993, Bought Salomon in 1997, and Merged with Citicorp in 1998</a:t>
            </a:r>
            <a:endParaRPr b="0" lang="en-US" sz="18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450720" y="249120"/>
            <a:ext cx="8541000" cy="1165320"/>
          </a:xfrm>
          <a:prstGeom prst="rect">
            <a:avLst/>
          </a:prstGeom>
          <a:ln w="0">
            <a:noFill/>
          </a:ln>
        </p:spPr>
      </p:pic>
      <p:sp>
        <p:nvSpPr>
          <p:cNvPr id="446"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Gramm-Leach-Bliley Act of 1999 Demolished the Final Barriers Between Commercial and Investment Banking</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ommodity Futures Modernization Act of 2000 Prohibited Federal Regulation of Over the Counter Derivativ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oth Bills Cut in Half the Fees Paid by Financial Institutions to the SEC</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Title 1" descr=""/>
          <p:cNvPicPr/>
          <p:nvPr/>
        </p:nvPicPr>
        <p:blipFill>
          <a:blip r:embed="rId1"/>
          <a:stretch/>
        </p:blipFill>
        <p:spPr>
          <a:xfrm>
            <a:off x="450720" y="-66600"/>
            <a:ext cx="8491680" cy="1474560"/>
          </a:xfrm>
          <a:prstGeom prst="rect">
            <a:avLst/>
          </a:prstGeom>
          <a:ln w="0">
            <a:noFill/>
          </a:ln>
        </p:spPr>
      </p:pic>
      <p:sp>
        <p:nvSpPr>
          <p:cNvPr id="448"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t>
            </a:r>
            <a:r>
              <a:rPr b="0" lang="en-US" sz="3200" spc="-1" strike="noStrike">
                <a:solidFill>
                  <a:srgbClr val="ffffff"/>
                </a:solidFill>
                <a:latin typeface="Rockwell"/>
              </a:rPr>
              <a:t>The banks—hard to believe in a time where we’re facing a banking crisis that many of the banks created—are still the most powerful lobby on the Hill.”</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t>
            </a:r>
            <a:r>
              <a:rPr b="0" lang="en-US" sz="3200" spc="-1" strike="noStrike">
                <a:solidFill>
                  <a:srgbClr val="ffffff"/>
                </a:solidFill>
                <a:latin typeface="Rockwell"/>
              </a:rPr>
              <a:t>And, quite frankly, since 1981 the bankers have owned this place.”</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1" descr=""/>
          <p:cNvPicPr/>
          <p:nvPr/>
        </p:nvPicPr>
        <p:blipFill>
          <a:blip r:embed="rId1"/>
          <a:stretch/>
        </p:blipFill>
        <p:spPr>
          <a:xfrm>
            <a:off x="450720" y="-66600"/>
            <a:ext cx="8650440" cy="1474560"/>
          </a:xfrm>
          <a:prstGeom prst="rect">
            <a:avLst/>
          </a:prstGeom>
          <a:ln w="0">
            <a:noFill/>
          </a:ln>
        </p:spPr>
      </p:pic>
      <p:sp>
        <p:nvSpPr>
          <p:cNvPr id="450"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t>
            </a:r>
            <a:r>
              <a:rPr b="0" lang="en-US" sz="3200" spc="-1" strike="noStrike">
                <a:solidFill>
                  <a:srgbClr val="ffffff"/>
                </a:solidFill>
                <a:latin typeface="Rockwell"/>
              </a:rPr>
              <a:t>These deregulation efforts provide substantial benefits to the financial system.  Financial institutions are better able to measure and manage risk much more effectively.  Risks are spread more widely, across a more diverse group of financial intermediaries, within and across countri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ebruary 26, 2008</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0720" y="-66600"/>
            <a:ext cx="8491680" cy="147456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y administration is the only thing between you and the pitchforks.</a:t>
            </a:r>
            <a:endParaRPr b="0" lang="en-US" sz="3200" spc="-1" strike="noStrike">
              <a:solidFill>
                <a:srgbClr val="ffffff"/>
              </a:solidFill>
              <a:latin typeface="Rockwel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49120"/>
            <a:ext cx="8541000" cy="1165320"/>
          </a:xfrm>
          <a:prstGeom prst="rect">
            <a:avLst/>
          </a:prstGeom>
          <a:ln w="0">
            <a:noFill/>
          </a:ln>
        </p:spPr>
      </p:pic>
      <p:sp>
        <p:nvSpPr>
          <p:cNvPr id="408"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t>
            </a:r>
            <a:r>
              <a:rPr b="0" lang="en-US" sz="3200" spc="-1" strike="noStrike">
                <a:solidFill>
                  <a:srgbClr val="ffffff"/>
                </a:solidFill>
                <a:latin typeface="Rockwell"/>
              </a:rPr>
              <a:t>I sincerely believe, with you, that banking institutions are more dangerous than standing armies.”</a:t>
            </a:r>
            <a:endParaRPr b="0" lang="en-US" sz="3200" spc="-1" strike="noStrike">
              <a:solidFill>
                <a:srgbClr val="ffffff"/>
              </a:solidFill>
              <a:latin typeface="Rockwel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450720" y="249120"/>
            <a:ext cx="8541000" cy="1165320"/>
          </a:xfrm>
          <a:prstGeom prst="rect">
            <a:avLst/>
          </a:prstGeom>
          <a:ln w="0">
            <a:noFill/>
          </a:ln>
        </p:spPr>
      </p:pic>
      <p:sp>
        <p:nvSpPr>
          <p:cNvPr id="410"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t>
            </a:r>
            <a:r>
              <a:rPr b="0" lang="en-US" sz="3200" spc="-1" strike="noStrike">
                <a:solidFill>
                  <a:srgbClr val="ffffff"/>
                </a:solidFill>
                <a:latin typeface="Rockwell"/>
              </a:rPr>
              <a:t>The government should ensure that sufficient credit is available to fund economic development and transform America into a entrepreneurial country.  This requires the introduction of modern forms of finance and government backed national bank.”</a:t>
            </a:r>
            <a:endParaRPr b="0" lang="en-US" sz="3200" spc="-1" strike="noStrike">
              <a:solidFill>
                <a:srgbClr val="ffffff"/>
              </a:solidFill>
              <a:latin typeface="Rockwel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450720" y="249120"/>
            <a:ext cx="8491680" cy="1158840"/>
          </a:xfrm>
          <a:prstGeom prst="rect">
            <a:avLst/>
          </a:prstGeom>
          <a:ln w="0">
            <a:noFill/>
          </a:ln>
        </p:spPr>
      </p:pic>
      <p:sp>
        <p:nvSpPr>
          <p:cNvPr id="412"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reated the Federal Reserve Board</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esident Appointed 1/3 of Director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ivate Banks Appoint 2/3 of Director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ederal Reserve Banks were (and remain) Technically Privat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ederal Reserve Offered Banks Two Thing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hort Term Liquidity Loans; and</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ower Interest Rates on the Loans</a:t>
            </a:r>
            <a:endParaRPr b="0" lang="en-US" sz="26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450720" y="249120"/>
            <a:ext cx="8491680" cy="1158840"/>
          </a:xfrm>
          <a:prstGeom prst="rect">
            <a:avLst/>
          </a:prstGeom>
          <a:ln w="0">
            <a:noFill/>
          </a:ln>
        </p:spPr>
      </p:pic>
      <p:sp>
        <p:nvSpPr>
          <p:cNvPr id="41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e Bank Act of 1933 (Glass-Steagall Act)</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reated FDIC to Protect Commercial Banks</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DIC Created Tight Federal Regulation</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parated Commercial Banking from Investment Banking</a:t>
            </a:r>
            <a:endParaRPr b="0" lang="en-US" sz="3200" spc="-1" strike="noStrike">
              <a:solidFill>
                <a:srgbClr val="ffffff"/>
              </a:solidFill>
              <a:latin typeface="Rockwell"/>
            </a:endParaRPr>
          </a:p>
          <a:p>
            <a:pPr lvl="1" marL="639720" indent="-228600">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JP Morgan had to spin-off investment banking which became Morgan Stanley</a:t>
            </a:r>
            <a:endParaRPr b="0" lang="en-US" sz="2600" spc="-1" strike="noStrike">
              <a:solidFill>
                <a:srgbClr val="ffffff"/>
              </a:solidFill>
              <a:latin typeface="Rockwell"/>
            </a:endParaRPr>
          </a:p>
          <a:p>
            <a:pPr lvl="1" marL="639720" indent="-228600">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nvestment Banking Regulated by the SEC</a:t>
            </a:r>
            <a:endParaRPr b="0" lang="en-US" sz="2600" spc="-1" strike="noStrike">
              <a:solidFill>
                <a:srgbClr val="ffffff"/>
              </a:solidFill>
              <a:latin typeface="Rockwell"/>
            </a:endParaRPr>
          </a:p>
          <a:p>
            <a:pPr lvl="1" marL="639720" indent="-228600">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450720" y="-66600"/>
            <a:ext cx="8491680" cy="1474560"/>
          </a:xfrm>
          <a:prstGeom prst="rect">
            <a:avLst/>
          </a:prstGeom>
          <a:ln w="0">
            <a:noFill/>
          </a:ln>
        </p:spPr>
      </p:pic>
      <p:sp>
        <p:nvSpPr>
          <p:cNvPr id="416"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orrow Money from the Fed at 3%</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Loan Money to Consumers at Fixed Rates of 6%</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ake it to the Golf Course by 3:00 p.m.</a:t>
            </a:r>
            <a:endParaRPr b="0" lang="en-US" sz="3200" spc="-1" strike="noStrike">
              <a:solidFill>
                <a:srgbClr val="ffffff"/>
              </a:solidFill>
              <a:latin typeface="Rockwel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450720" y="249120"/>
            <a:ext cx="8541000" cy="1165320"/>
          </a:xfrm>
          <a:prstGeom prst="rect">
            <a:avLst/>
          </a:prstGeom>
          <a:ln w="0">
            <a:noFill/>
          </a:ln>
        </p:spPr>
      </p:pic>
      <p:sp>
        <p:nvSpPr>
          <p:cNvPr id="418"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Ronald Regan, Inaugural Address:  January 20, 1981</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t>
            </a:r>
            <a:r>
              <a:rPr b="0" lang="en-US" sz="3200" spc="-1" strike="noStrike">
                <a:solidFill>
                  <a:srgbClr val="ffffff"/>
                </a:solidFill>
                <a:latin typeface="Rockwell"/>
              </a:rPr>
              <a:t>In this present crisis, government is not the solution to our problems; government is the problem.”</a:t>
            </a:r>
            <a:endParaRPr b="0" lang="en-US" sz="3200" spc="-1" strike="noStrike">
              <a:solidFill>
                <a:srgbClr val="ffffff"/>
              </a:solidFill>
              <a:latin typeface="Rockwel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6:18:05Z</dcterms:created>
  <dc:creator>O. Max Gardner III</dc:creator>
  <dc:description/>
  <dc:language>en-US</dc:language>
  <cp:lastModifiedBy>user1</cp:lastModifiedBy>
  <dcterms:modified xsi:type="dcterms:W3CDTF">2011-01-24T19:51:08Z</dcterms:modified>
  <cp:revision>12</cp:revision>
  <dc:subject/>
  <dc:title>From Roosevelt to Obama</dc:title>
</cp:coreProperties>
</file>